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620CA6C-4C9A-4051-98AD-8015926CAF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BD85458-612E-482D-BD5F-22044D2B1E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8F9EC46-636A-4884-9268-A9A7DACFCEB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627180C-83D6-42B5-8FBB-0E545AC078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6BA5A0C-0EE5-4523-B9A6-4E101508B2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89430C-744A-47C3-BF0C-21CDAE51D4A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B75EB3B-9EFD-42B0-B1CF-9836B469B41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89CB95A-1236-4CFF-A4A4-5108D6482F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BC8ABC5-97ED-476D-89E8-1EAFE9D6FB9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894A86-1D87-4E12-B51E-922C15219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D0F781-9375-4057-A81A-BA3EE622541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9439B-B559-4F91-8A6D-84B94FF3778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D6C8A9-873C-4E16-A14F-01AD0009B9C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1C154-7FA2-4CE3-84A1-72C232FA24F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74C935-ECEA-4175-8938-CB9CD0B218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A75CE3-7CFF-480D-9F85-76F51AD195F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66B9C-A3F4-4011-8B3F-6C0A4F5EBC4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BED42-1368-45C6-A507-6E0C309206E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8C3FE9-8FD1-460E-B4D7-B38B75D092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F47507-8B3A-4577-ACE6-D3C6E9A641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250526-989C-4D65-A919-4DA2F8DBD4E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9C4D7D3-99FB-4DF9-B8B6-FD64096A66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9EE39AD-569C-4D10-AE2E-2F5143C3D8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BC99E7D-2A19-4A71-A116-B64484D71A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64ECF53-986D-41E0-9706-97528735EAA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293E58E-2F44-474A-9289-992728A959A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98121DA-53A7-44BD-9851-6D3C8BB8FD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8E3BFD-161F-4DD8-BB69-3A2B73D1D6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00024C-384F-4D25-B1D5-9C91D25E0C4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6B14D1-BC38-4BEC-B8D4-EFC60CA886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B43171-6FC0-49E3-829D-335F6B57213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46EE5E0-90FE-4698-8268-1364052950B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6BF6782-1480-4002-95B7-C3D91CC492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3200212-1974-480F-B62F-28F74F8850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D1291C-3386-46AF-863F-12848B95E3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94F647-7BDE-462A-BF12-7A570CCB79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331B0E-645B-4DFB-B1D4-8CF04BBA1E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48629E-674B-4503-BADC-B3AD7BB8A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892423-F3DB-4303-B4C7-0B1243C47F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986DE3-1365-414A-83EA-535486218A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A5219C-963D-4669-B808-A9BC09726D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751C9-6BE7-489F-B1AF-A84FE94FE3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A40E32-8830-4C07-B47C-C5A8D3B1BB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9DD2BF-94F7-44EB-ABB9-F4A00E6FDC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F08CC5-11D8-4BAC-9F9B-2603D70BC7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D1ECDC-04C9-4EE2-ABA0-6B43545CF1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7AB25D-770E-41F0-AFAE-3E282B5404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82B080-A18A-41B9-8E4D-D87830D880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B34092-FC26-44A6-89E4-22405EE389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B31D35-1476-4246-9EAE-0FBD3E698C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CACB7E-44BB-431A-A652-9A16AC05828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4EBA14-C18E-4879-BD57-0519FB0CE4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6EAC4F-27A8-4ECD-BCDA-FE41AFC53F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172BAA-277B-4A3D-A11C-A84D2BE8C5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DD3094-8F53-4CDD-A653-45E45044B1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9029BD5-5853-484D-B5AB-AF5D87FE0D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5E9376-402A-4975-B371-1E7108F77B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0C35F-186B-4BB9-9BE6-774B039D2B1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98252-6983-4DE1-878F-252F25F64C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25610-A617-4171-93FA-C148A9A132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E52BF-B40B-48C6-B7E2-9B927FE4BA7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EEA58-8C54-4E69-9CBD-54A081DEE60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666BE-11DB-445B-BDFF-01AC24FB92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7C49F-3A3E-4A44-B01A-9706CAC663A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57FAC-664F-46E5-997E-ED20C13C181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B1B70-F59A-41D6-B903-86279723358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F8AC4-C613-487E-B4FC-48B88579DB9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D6785-FDEC-4596-A47F-A50D4F7605D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F231F-BE23-404F-B58A-43D84A15B14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884E12-D8C7-4E31-8FC7-46969F6456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670137-DC05-4D2E-B9E7-18F7DC665F8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BD73E1-D792-4844-9001-51993580926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F6F5B5-4666-4CD2-A517-E062E7EF99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5C894C-E448-4A09-8CCB-7E8BE8B89C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F23613-5002-42FF-9C11-7E18A29FC95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324DF1-5CA1-485F-B316-8072C83C887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232CA0-4F5F-4AA8-AE3A-DA11A718981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CAB154-D259-46A4-BE70-F19CADB4069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A1D438-D3C4-4C11-8438-683F97E1F01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65F8E5-19CE-4F7B-B9B2-4F9A34B13B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0B1566-317F-459E-8BE1-57BF27FFF56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D2A230F-A3B7-40D4-BFD3-17B9F80B3FD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493B2D1-2090-49D3-AD01-BD6B75A445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A7E6469-FCDE-487F-AD55-F588C9631E6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4EF292D-1F43-4BF8-9E24-9C430AD64C8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371ABE6-8912-4365-828C-A27A0BA80F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1F98A03-9F59-4423-9671-357A64D0EEA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35CADB2-A7AF-4898-BE61-1F7A3874C6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925DBC-2A7E-4D63-921D-F477F6C5508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B279AC-AEE5-4D4F-AFC6-0CF5FFF91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AE19E87-CA2E-497C-B61D-16D81C604AB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9E34895-EFC2-4B22-B645-5200422CC4D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F2B3717-F6BD-4950-A642-1A257A8A2A0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3EC2FB-BB39-4B16-997B-8DE67C14DEF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35D8F-535A-4DAA-8BD0-D2041E18C5B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4A058-5989-4E3E-81DF-73FA2250508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46608-C8BC-4A78-8A19-A48DE85D9F3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5F9A3A-4284-49A1-8E7A-6C4BEAF11CA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E623B-1AC4-4CAD-8DFA-9CCF8D3985B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AF3F2-CAA0-47E7-81BF-3917EC97BD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4E4B8-540A-4CF6-8AB8-6C59EE63142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1FF1F-D8AB-4506-8DEE-73A072171F4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AB3111-4594-4937-98B1-D5CB62697DD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18FB9C-73BB-449D-B2D2-61B10A538E7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C5BEB4-2A43-4C0A-97ED-D5340044447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C523501-BE3D-4BC4-820F-3B9D8D2EB8A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20ED149-E6A4-41A3-8FCE-52B8079079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AD7C206-C456-4387-AACA-4BAB5EF2AC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083C6D-BD3C-4DDF-8791-0C11F50F945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03855CF-23A2-45E0-A66A-82A458C676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0272C14-CBE8-480F-ADF0-E5FC21F0D4C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0D5ECB-8212-4956-A9B4-9879C6C9CAB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24B22E-47FC-4FE6-BABD-1D8C2382035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130139-5653-4FBD-B7C1-57D9035DC2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7B21BD5-E5AB-4CD2-932C-F96190F01BF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E772DD4-2A21-45EA-9784-962E29BC07B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810D645-272C-49B8-BCB3-33507A13788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3437D8F-A89C-4FB2-B8D3-61C0976E9E0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C2D5160-37E8-4694-9E29-82EEBDC9B9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0ED36FE-F4A5-4B94-A1EF-94975B49EC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0"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 name="Picture 8" descr=""/>
          <p:cNvPicPr/>
          <p:nvPr/>
        </p:nvPicPr>
        <p:blipFill>
          <a:blip r:embed="rId2"/>
          <a:srcRect l="0" t="0" r="0" b="20622"/>
          <a:stretch/>
        </p:blipFill>
        <p:spPr>
          <a:xfrm>
            <a:off x="-227160" y="-19080"/>
            <a:ext cx="1089000" cy="85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369"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70"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371" name="Picture 8" descr=""/>
          <p:cNvPicPr/>
          <p:nvPr/>
        </p:nvPicPr>
        <p:blipFill>
          <a:blip r:embed="rId2"/>
          <a:srcRect l="0" t="0" r="0" b="20622"/>
          <a:stretch/>
        </p:blipFill>
        <p:spPr>
          <a:xfrm>
            <a:off x="-227160" y="-19080"/>
            <a:ext cx="1089000" cy="851040"/>
          </a:xfrm>
          <a:prstGeom prst="rect">
            <a:avLst/>
          </a:prstGeom>
          <a:ln w="0">
            <a:noFill/>
          </a:ln>
        </p:spPr>
      </p:pic>
      <p:sp>
        <p:nvSpPr>
          <p:cNvPr id="372" name="PlaceHolder 1"/>
          <p:cNvSpPr>
            <a:spLocks noGrp="1"/>
          </p:cNvSpPr>
          <p:nvPr>
            <p:ph type="ftr" idx="17"/>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373" name="PlaceHolder 2"/>
          <p:cNvSpPr>
            <a:spLocks noGrp="1"/>
          </p:cNvSpPr>
          <p:nvPr>
            <p:ph type="sldNum" idx="18"/>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48F6-C485-452A-B7B9-73C363D25D58}"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10"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11"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412" name="Picture 8" descr=""/>
          <p:cNvPicPr/>
          <p:nvPr/>
        </p:nvPicPr>
        <p:blipFill>
          <a:blip r:embed="rId2"/>
          <a:srcRect l="0" t="0" r="0" b="20622"/>
          <a:stretch/>
        </p:blipFill>
        <p:spPr>
          <a:xfrm>
            <a:off x="-227160" y="-19080"/>
            <a:ext cx="1089000" cy="851040"/>
          </a:xfrm>
          <a:prstGeom prst="rect">
            <a:avLst/>
          </a:prstGeom>
          <a:ln w="0">
            <a:noFill/>
          </a:ln>
        </p:spPr>
      </p:pic>
      <p:sp>
        <p:nvSpPr>
          <p:cNvPr id="413" name="PlaceHolder 1"/>
          <p:cNvSpPr>
            <a:spLocks noGrp="1"/>
          </p:cNvSpPr>
          <p:nvPr>
            <p:ph type="ftr" idx="19"/>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zione test ammissione facoltà architettura e design a.a.06707presentazione test di ammissione alle facolt</a:t>
            </a:r>
            <a:r>
              <a:rPr b="0" lang="it-IT" sz="2400" spc="-1" strike="noStrike">
                <a:solidFill>
                  <a:srgbClr val="ffffff"/>
                </a:solidFill>
                <a:latin typeface="Arial"/>
              </a:rPr>
              <a:t>à di architettura – a.a.2005/2006</a:t>
            </a:r>
            <a:endParaRPr b="0" lang="en-US" sz="2400" spc="-1" strike="noStrike">
              <a:solidFill>
                <a:srgbClr val="000000"/>
              </a:solidFill>
              <a:latin typeface="Times New Roman"/>
            </a:endParaRPr>
          </a:p>
        </p:txBody>
      </p:sp>
      <p:sp>
        <p:nvSpPr>
          <p:cNvPr id="414" name="PlaceHolder 2"/>
          <p:cNvSpPr>
            <a:spLocks noGrp="1"/>
          </p:cNvSpPr>
          <p:nvPr>
            <p:ph type="sldNum" idx="20"/>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6A66-29F4-4E90-B357-E2C48ED1AA0A}" type="slidenum">
              <a:rPr b="0"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39"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0"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41" name="Picture 8" descr=""/>
          <p:cNvPicPr/>
          <p:nvPr/>
        </p:nvPicPr>
        <p:blipFill>
          <a:blip r:embed="rId2"/>
          <a:srcRect l="0" t="0" r="0" b="20622"/>
          <a:stretch/>
        </p:blipFill>
        <p:spPr>
          <a:xfrm>
            <a:off x="-227160" y="-19080"/>
            <a:ext cx="1089000" cy="851040"/>
          </a:xfrm>
          <a:prstGeom prst="rect">
            <a:avLst/>
          </a:prstGeom>
          <a:ln w="0">
            <a:noFill/>
          </a:ln>
        </p:spPr>
      </p:pic>
      <p:sp>
        <p:nvSpPr>
          <p:cNvPr id="42" name="PlaceHolder 1"/>
          <p:cNvSpPr>
            <a:spLocks noGrp="1"/>
          </p:cNvSpPr>
          <p:nvPr>
            <p:ph type="ftr" idx="1"/>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43" name="PlaceHolder 2"/>
          <p:cNvSpPr>
            <a:spLocks noGrp="1"/>
          </p:cNvSpPr>
          <p:nvPr>
            <p:ph type="sldNum" idx="2"/>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99F6-F8AC-4591-BCE8-A0A7E810AEB2}"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80"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1"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82" name="Picture 8" descr=""/>
          <p:cNvPicPr/>
          <p:nvPr/>
        </p:nvPicPr>
        <p:blipFill>
          <a:blip r:embed="rId2"/>
          <a:srcRect l="0" t="0" r="0" b="20622"/>
          <a:stretch/>
        </p:blipFill>
        <p:spPr>
          <a:xfrm>
            <a:off x="-227160" y="-19080"/>
            <a:ext cx="1089000" cy="851040"/>
          </a:xfrm>
          <a:prstGeom prst="rect">
            <a:avLst/>
          </a:prstGeom>
          <a:ln w="0">
            <a:noFill/>
          </a:ln>
        </p:spPr>
      </p:pic>
      <p:sp>
        <p:nvSpPr>
          <p:cNvPr id="83" name="PlaceHolder 1"/>
          <p:cNvSpPr>
            <a:spLocks noGrp="1"/>
          </p:cNvSpPr>
          <p:nvPr>
            <p:ph type="ftr" idx="3"/>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84" name="PlaceHolder 2"/>
          <p:cNvSpPr>
            <a:spLocks noGrp="1"/>
          </p:cNvSpPr>
          <p:nvPr>
            <p:ph type="sldNum" idx="4"/>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7A88-18E6-4E75-B1A4-DD611303474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21"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2"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23" name="Picture 8" descr=""/>
          <p:cNvPicPr/>
          <p:nvPr/>
        </p:nvPicPr>
        <p:blipFill>
          <a:blip r:embed="rId2"/>
          <a:srcRect l="0" t="0" r="0" b="20622"/>
          <a:stretch/>
        </p:blipFill>
        <p:spPr>
          <a:xfrm>
            <a:off x="-227160" y="-19080"/>
            <a:ext cx="1089000" cy="851040"/>
          </a:xfrm>
          <a:prstGeom prst="rect">
            <a:avLst/>
          </a:prstGeom>
          <a:ln w="0">
            <a:noFill/>
          </a:ln>
        </p:spPr>
      </p:pic>
      <p:sp>
        <p:nvSpPr>
          <p:cNvPr id="124" name="PlaceHolder 1"/>
          <p:cNvSpPr>
            <a:spLocks noGrp="1"/>
          </p:cNvSpPr>
          <p:nvPr>
            <p:ph type="ftr" idx="5"/>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125" name="PlaceHolder 2"/>
          <p:cNvSpPr>
            <a:spLocks noGrp="1"/>
          </p:cNvSpPr>
          <p:nvPr>
            <p:ph type="sldNum" idx="6"/>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1ED3-B659-4351-9A9D-9132B06FB54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2"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3"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64" name="Picture 8" descr=""/>
          <p:cNvPicPr/>
          <p:nvPr/>
        </p:nvPicPr>
        <p:blipFill>
          <a:blip r:embed="rId2"/>
          <a:srcRect l="0" t="0" r="0" b="20622"/>
          <a:stretch/>
        </p:blipFill>
        <p:spPr>
          <a:xfrm>
            <a:off x="-227160" y="-19080"/>
            <a:ext cx="1089000" cy="851040"/>
          </a:xfrm>
          <a:prstGeom prst="rect">
            <a:avLst/>
          </a:prstGeom>
          <a:ln w="0">
            <a:noFill/>
          </a:ln>
        </p:spPr>
      </p:pic>
      <p:sp>
        <p:nvSpPr>
          <p:cNvPr id="165" name="PlaceHolder 1"/>
          <p:cNvSpPr>
            <a:spLocks noGrp="1"/>
          </p:cNvSpPr>
          <p:nvPr>
            <p:ph type="ftr" idx="7"/>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166" name="PlaceHolder 2"/>
          <p:cNvSpPr>
            <a:spLocks noGrp="1"/>
          </p:cNvSpPr>
          <p:nvPr>
            <p:ph type="sldNum" idx="8"/>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BD4E-1B80-4D30-A1AA-67277A4668D7}"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03"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04"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05" name="Picture 8" descr=""/>
          <p:cNvPicPr/>
          <p:nvPr/>
        </p:nvPicPr>
        <p:blipFill>
          <a:blip r:embed="rId2"/>
          <a:srcRect l="0" t="0" r="0" b="20622"/>
          <a:stretch/>
        </p:blipFill>
        <p:spPr>
          <a:xfrm>
            <a:off x="-227160" y="-19080"/>
            <a:ext cx="1089000" cy="851040"/>
          </a:xfrm>
          <a:prstGeom prst="rect">
            <a:avLst/>
          </a:prstGeom>
          <a:ln w="0">
            <a:noFill/>
          </a:ln>
        </p:spPr>
      </p:pic>
      <p:sp>
        <p:nvSpPr>
          <p:cNvPr id="206" name="PlaceHolder 1"/>
          <p:cNvSpPr>
            <a:spLocks noGrp="1"/>
          </p:cNvSpPr>
          <p:nvPr>
            <p:ph type="ftr" idx="9"/>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207" name="PlaceHolder 2"/>
          <p:cNvSpPr>
            <a:spLocks noGrp="1"/>
          </p:cNvSpPr>
          <p:nvPr>
            <p:ph type="sldNum" idx="10"/>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671F-F7DA-4B39-910A-AF0C84E6F34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44"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45"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46" name="Picture 8" descr=""/>
          <p:cNvPicPr/>
          <p:nvPr/>
        </p:nvPicPr>
        <p:blipFill>
          <a:blip r:embed="rId2"/>
          <a:srcRect l="0" t="0" r="0" b="20622"/>
          <a:stretch/>
        </p:blipFill>
        <p:spPr>
          <a:xfrm>
            <a:off x="-227160" y="-19080"/>
            <a:ext cx="1089000" cy="851040"/>
          </a:xfrm>
          <a:prstGeom prst="rect">
            <a:avLst/>
          </a:prstGeom>
          <a:ln w="0">
            <a:noFill/>
          </a:ln>
        </p:spPr>
      </p:pic>
      <p:sp>
        <p:nvSpPr>
          <p:cNvPr id="247" name="PlaceHolder 1"/>
          <p:cNvSpPr>
            <a:spLocks noGrp="1"/>
          </p:cNvSpPr>
          <p:nvPr>
            <p:ph type="ftr" idx="11"/>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248" name="PlaceHolder 2"/>
          <p:cNvSpPr>
            <a:spLocks noGrp="1"/>
          </p:cNvSpPr>
          <p:nvPr>
            <p:ph type="sldNum" idx="12"/>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DF99-C800-4C3B-9C88-0DA4692D9E9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49"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87"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88"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89" name="Picture 8" descr=""/>
          <p:cNvPicPr/>
          <p:nvPr/>
        </p:nvPicPr>
        <p:blipFill>
          <a:blip r:embed="rId2"/>
          <a:srcRect l="0" t="0" r="0" b="20622"/>
          <a:stretch/>
        </p:blipFill>
        <p:spPr>
          <a:xfrm>
            <a:off x="-227160" y="-19080"/>
            <a:ext cx="1089000" cy="851040"/>
          </a:xfrm>
          <a:prstGeom prst="rect">
            <a:avLst/>
          </a:prstGeom>
          <a:ln w="0">
            <a:noFill/>
          </a:ln>
        </p:spPr>
      </p:pic>
      <p:sp>
        <p:nvSpPr>
          <p:cNvPr id="290" name="PlaceHolder 1"/>
          <p:cNvSpPr>
            <a:spLocks noGrp="1"/>
          </p:cNvSpPr>
          <p:nvPr>
            <p:ph type="ftr" idx="13"/>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291" name="PlaceHolder 2"/>
          <p:cNvSpPr>
            <a:spLocks noGrp="1"/>
          </p:cNvSpPr>
          <p:nvPr>
            <p:ph type="sldNum" idx="14"/>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AA12-0114-4BE0-B09A-0D3089D9A2FD}"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328"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29"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330" name="Picture 8" descr=""/>
          <p:cNvPicPr/>
          <p:nvPr/>
        </p:nvPicPr>
        <p:blipFill>
          <a:blip r:embed="rId2"/>
          <a:srcRect l="0" t="0" r="0" b="20622"/>
          <a:stretch/>
        </p:blipFill>
        <p:spPr>
          <a:xfrm>
            <a:off x="-227160" y="-19080"/>
            <a:ext cx="1089000" cy="851040"/>
          </a:xfrm>
          <a:prstGeom prst="rect">
            <a:avLst/>
          </a:prstGeom>
          <a:ln w="0">
            <a:noFill/>
          </a:ln>
        </p:spPr>
      </p:pic>
      <p:sp>
        <p:nvSpPr>
          <p:cNvPr id="331" name="PlaceHolder 1"/>
          <p:cNvSpPr>
            <a:spLocks noGrp="1"/>
          </p:cNvSpPr>
          <p:nvPr>
            <p:ph type="ftr" idx="15"/>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332" name="PlaceHolder 2"/>
          <p:cNvSpPr>
            <a:spLocks noGrp="1"/>
          </p:cNvSpPr>
          <p:nvPr>
            <p:ph type="sldNum" idx="16"/>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6B6E-4384-48C1-8A0B-87C98988A76D}"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539640" y="1197000"/>
            <a:ext cx="820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rso: </a:t>
            </a:r>
            <a:r>
              <a:rPr b="1" lang="it-IT" sz="1800" spc="-1" strike="noStrike">
                <a:solidFill>
                  <a:srgbClr val="ff3300"/>
                </a:solidFill>
                <a:latin typeface="Verdana"/>
              </a:rPr>
              <a:t>Generative Design</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cente: Prof. Celestino Soddu</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dLM a cui è offerto: tutti i CdLM </a:t>
            </a:r>
            <a:r>
              <a:rPr b="1" lang="it-IT" sz="1800" spc="-1" strike="noStrike">
                <a:solidFill>
                  <a:srgbClr val="000000"/>
                </a:solidFill>
                <a:latin typeface="Verdana"/>
              </a:rPr>
              <a:t>(NO 1° anno Pssd e D&amp;E)</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mestre: 1°</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ingua di erogazione: inglese</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 max studenti ammessi: 80 Polimi + 25 Erasmus</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alità d’esame per non frequentanti: da concordare</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52" name="Text Box 3"/>
          <p:cNvSpPr/>
          <p:nvPr/>
        </p:nvSpPr>
        <p:spPr>
          <a:xfrm>
            <a:off x="1117800" y="158760"/>
            <a:ext cx="67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Corsi a scelta Laurea Magistrale - 1°semestre</a:t>
            </a:r>
            <a:endParaRPr b="1" lang="en-US" sz="2400" spc="-1" strike="noStrike">
              <a:solidFill>
                <a:srgbClr val="ffffff"/>
              </a:solidFill>
              <a:latin typeface="Verdana"/>
            </a:endParaRPr>
          </a:p>
        </p:txBody>
      </p:sp>
      <p:sp>
        <p:nvSpPr>
          <p:cNvPr id="453"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9 settembre '14</a:t>
            </a:r>
            <a:endParaRPr b="1" lang="en-US" sz="1200" spc="-1" strike="noStrike">
              <a:solidFill>
                <a:srgbClr val="ffffff"/>
              </a:solidFill>
              <a:latin typeface="Verdana"/>
            </a:endParaRPr>
          </a:p>
        </p:txBody>
      </p:sp>
      <p:sp>
        <p:nvSpPr>
          <p:cNvPr id="454" name="Rectangle 2"/>
          <p:cNvSpPr/>
          <p:nvPr/>
        </p:nvSpPr>
        <p:spPr>
          <a:xfrm>
            <a:off x="468360" y="3284640"/>
            <a:ext cx="8351640" cy="439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70c0"/>
                </a:solidFill>
                <a:latin typeface="Verdana"/>
              </a:rPr>
              <a:t>The aim of Generative Design teaching is:</a:t>
            </a:r>
            <a:br>
              <a:rPr sz="1300"/>
            </a:br>
            <a:r>
              <a:rPr b="1" lang="en-GB" sz="1300" spc="-1" strike="noStrike">
                <a:solidFill>
                  <a:srgbClr val="0070c0"/>
                </a:solidFill>
                <a:latin typeface="Verdana"/>
              </a:rPr>
              <a:t>1. Increasing the </a:t>
            </a:r>
            <a:r>
              <a:rPr b="1" lang="en-GB" sz="1300" spc="-1" strike="noStrike">
                <a:solidFill>
                  <a:srgbClr val="ff0000"/>
                </a:solidFill>
                <a:latin typeface="Verdana"/>
              </a:rPr>
              <a:t>quality</a:t>
            </a:r>
            <a:r>
              <a:rPr b="1" lang="en-GB" sz="1300" spc="-1" strike="noStrike">
                <a:solidFill>
                  <a:srgbClr val="0070c0"/>
                </a:solidFill>
                <a:latin typeface="Verdana"/>
              </a:rPr>
              <a:t> of Design processes.</a:t>
            </a:r>
            <a:br>
              <a:rPr sz="1300"/>
            </a:br>
            <a:r>
              <a:rPr b="1" lang="en-GB" sz="1300" spc="-1" strike="noStrike">
                <a:solidFill>
                  <a:srgbClr val="0070c0"/>
                </a:solidFill>
                <a:latin typeface="Verdana"/>
              </a:rPr>
              <a:t>2. Supporting the </a:t>
            </a:r>
            <a:r>
              <a:rPr b="1" lang="en-GB" sz="1300" spc="-1" strike="noStrike">
                <a:solidFill>
                  <a:srgbClr val="ff0000"/>
                </a:solidFill>
                <a:latin typeface="Verdana"/>
              </a:rPr>
              <a:t>construction of own Design Style and Identity</a:t>
            </a:r>
            <a:r>
              <a:rPr b="1" lang="en-GB" sz="1300" spc="-1" strike="noStrike">
                <a:solidFill>
                  <a:srgbClr val="0070c0"/>
                </a:solidFill>
                <a:latin typeface="Verdana"/>
              </a:rPr>
              <a:t>, identifying and constructing the “characters” of own recognizable approach to Design</a:t>
            </a:r>
            <a:br>
              <a:rPr sz="1300"/>
            </a:br>
            <a:r>
              <a:rPr b="1" lang="en-GB" sz="1300" spc="-1" strike="noStrike">
                <a:solidFill>
                  <a:srgbClr val="0070c0"/>
                </a:solidFill>
                <a:latin typeface="Verdana"/>
              </a:rPr>
              <a:t>3. Defining </a:t>
            </a:r>
            <a:r>
              <a:rPr b="1" lang="en-GB" sz="1300" spc="-1" strike="noStrike">
                <a:solidFill>
                  <a:srgbClr val="ff0000"/>
                </a:solidFill>
                <a:latin typeface="Verdana"/>
              </a:rPr>
              <a:t>advanced theoretical and operative skills </a:t>
            </a:r>
            <a:r>
              <a:rPr b="1" lang="en-GB" sz="1300" spc="-1" strike="noStrike">
                <a:solidFill>
                  <a:srgbClr val="0070c0"/>
                </a:solidFill>
                <a:latin typeface="Verdana"/>
              </a:rPr>
              <a:t>for increasing the Design quality</a:t>
            </a:r>
            <a:br>
              <a:rPr sz="1300"/>
            </a:br>
            <a:r>
              <a:rPr b="1" lang="en-GB" sz="1300" spc="-1" strike="noStrike">
                <a:solidFill>
                  <a:srgbClr val="0070c0"/>
                </a:solidFill>
                <a:latin typeface="Verdana"/>
              </a:rPr>
              <a:t>4. Helping to </a:t>
            </a:r>
            <a:r>
              <a:rPr b="1" lang="en-GB" sz="1300" spc="-1" strike="noStrike">
                <a:solidFill>
                  <a:srgbClr val="ff0000"/>
                </a:solidFill>
                <a:latin typeface="Verdana"/>
              </a:rPr>
              <a:t>identify and select own Design imaginary </a:t>
            </a:r>
            <a:r>
              <a:rPr b="1" lang="en-GB" sz="1300" spc="-1" strike="noStrike">
                <a:solidFill>
                  <a:srgbClr val="0070c0"/>
                </a:solidFill>
                <a:latin typeface="Verdana"/>
              </a:rPr>
              <a:t>in a way to be directly used in own Design process.</a:t>
            </a:r>
            <a:br>
              <a:rPr sz="1300"/>
            </a:br>
            <a:r>
              <a:rPr b="1" lang="en-GB" sz="1300" spc="-1" strike="noStrike">
                <a:solidFill>
                  <a:srgbClr val="0070c0"/>
                </a:solidFill>
                <a:latin typeface="Verdana"/>
              </a:rPr>
              <a:t>5</a:t>
            </a:r>
            <a:r>
              <a:rPr b="1" lang="en-GB" sz="1300" spc="-1" strike="noStrike">
                <a:solidFill>
                  <a:srgbClr val="ff0000"/>
                </a:solidFill>
                <a:latin typeface="Verdana"/>
              </a:rPr>
              <a:t>. Experimenting the advanced Generative approaches to Design </a:t>
            </a:r>
            <a:r>
              <a:rPr b="1" lang="en-GB" sz="1300" spc="-1" strike="noStrike">
                <a:solidFill>
                  <a:srgbClr val="0070c0"/>
                </a:solidFill>
                <a:latin typeface="Verdana"/>
              </a:rPr>
              <a:t>using technologies able to move the design act from Forms to Processes, from static solutions to a dynamic operative vision of future and its world of variations of recognizable events.</a:t>
            </a:r>
            <a:br>
              <a:rPr sz="1300"/>
            </a:br>
            <a:br>
              <a:rPr sz="1300"/>
            </a:br>
            <a:r>
              <a:rPr b="1" lang="en-GB" sz="1300" spc="-1" strike="noStrike">
                <a:solidFill>
                  <a:srgbClr val="00b050"/>
                </a:solidFill>
                <a:latin typeface="Verdana"/>
              </a:rPr>
              <a:t>Generative Design is a morphogenetic process using algorithms structured as not-linear systems for endless unique and un-repeatable results performed by an idea-code, as in Nature. </a:t>
            </a:r>
            <a:r>
              <a:rPr b="1" lang="en-GB" sz="1300" spc="-1" strike="noStrike">
                <a:solidFill>
                  <a:srgbClr val="0070c0"/>
                </a:solidFill>
                <a:latin typeface="Verdana"/>
              </a:rPr>
              <a:t>(C.Soddu 1992)</a:t>
            </a:r>
            <a:endParaRPr b="1" lang="en-US" sz="13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3"/>
          <p:cNvSpPr/>
          <p:nvPr/>
        </p:nvSpPr>
        <p:spPr>
          <a:xfrm>
            <a:off x="1129680" y="158760"/>
            <a:ext cx="67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ea typeface="Arial"/>
              </a:rPr>
              <a:t>Corsi a scelta Laurea Magistrale - 1°semestre</a:t>
            </a:r>
            <a:endParaRPr b="1" lang="en-US" sz="2400" spc="-1" strike="noStrike">
              <a:solidFill>
                <a:srgbClr val="ffffff"/>
              </a:solidFill>
              <a:latin typeface="Verdana"/>
            </a:endParaRPr>
          </a:p>
        </p:txBody>
      </p:sp>
      <p:sp>
        <p:nvSpPr>
          <p:cNvPr id="456"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9 settembre '14</a:t>
            </a:r>
            <a:endParaRPr b="1" lang="en-US" sz="1200" spc="-1" strike="noStrike">
              <a:solidFill>
                <a:srgbClr val="ffffff"/>
              </a:solidFill>
              <a:latin typeface="Verdana"/>
            </a:endParaRPr>
          </a:p>
        </p:txBody>
      </p:sp>
      <p:sp>
        <p:nvSpPr>
          <p:cNvPr id="457" name="Rectangle 2"/>
          <p:cNvSpPr/>
          <p:nvPr/>
        </p:nvSpPr>
        <p:spPr>
          <a:xfrm>
            <a:off x="468360" y="1052640"/>
            <a:ext cx="8351640" cy="618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Verdana"/>
              </a:rPr>
              <a:t>Teaching structure</a:t>
            </a:r>
            <a:r>
              <a:rPr b="1" lang="en-GB" sz="1000" spc="-1" strike="noStrike">
                <a:solidFill>
                  <a:srgbClr val="0070c0"/>
                </a:solidFill>
                <a:latin typeface="Verdana"/>
              </a:rPr>
              <a:t>. Each student will be asked to:</a:t>
            </a:r>
            <a:br>
              <a:rPr sz="1000"/>
            </a:br>
            <a:r>
              <a:rPr b="1" lang="en-GB" sz="1000" spc="-1" strike="noStrike">
                <a:solidFill>
                  <a:srgbClr val="0070c0"/>
                </a:solidFill>
                <a:latin typeface="Verdana"/>
              </a:rPr>
              <a:t>1. identify own reference imaginary as process aims.</a:t>
            </a:r>
            <a:br>
              <a:rPr sz="1000"/>
            </a:br>
            <a:r>
              <a:rPr b="1" lang="en-GB" sz="1000" spc="-1" strike="noStrike">
                <a:solidFill>
                  <a:srgbClr val="0070c0"/>
                </a:solidFill>
                <a:latin typeface="Verdana"/>
              </a:rPr>
              <a:t>2. identify own design vision, focusing the characters of this vision.</a:t>
            </a:r>
            <a:br>
              <a:rPr sz="1000"/>
            </a:br>
            <a:r>
              <a:rPr b="1" lang="en-GB" sz="1000" spc="-1" strike="noStrike">
                <a:solidFill>
                  <a:srgbClr val="0070c0"/>
                </a:solidFill>
                <a:latin typeface="Verdana"/>
              </a:rPr>
              <a:t>3. costruct, starting from this imaginary, own design process codes (advanced generative scripts) able to be directly used into a design act and able to fit own design vision.</a:t>
            </a:r>
            <a:br>
              <a:rPr sz="1000"/>
            </a:br>
            <a:r>
              <a:rPr b="1" lang="en-GB" sz="1000" spc="-1" strike="noStrike">
                <a:solidFill>
                  <a:srgbClr val="0070c0"/>
                </a:solidFill>
                <a:latin typeface="Verdana"/>
              </a:rPr>
              <a:t>4. experiment this operative process in several design experiments, one each month, with the aim to sharpen the quality, identity and recognizability of the design acts.</a:t>
            </a:r>
            <a:endParaRPr b="1" lang="en-US" sz="1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0c0"/>
                </a:solidFill>
                <a:latin typeface="Verdana"/>
              </a:rPr>
              <a:t>5. increase knowledge by Generative Design experimentations</a:t>
            </a:r>
            <a:br>
              <a:rPr sz="1000"/>
            </a:br>
            <a:br>
              <a:rPr sz="1000"/>
            </a:br>
            <a:r>
              <a:rPr b="1" lang="en-GB" sz="1000" spc="-1" strike="noStrike">
                <a:solidFill>
                  <a:srgbClr val="0070c0"/>
                </a:solidFill>
                <a:latin typeface="Verdana"/>
              </a:rPr>
              <a:t>Each student will propose his/her design experiment to </a:t>
            </a:r>
            <a:r>
              <a:rPr b="1" lang="en-GB" sz="1000" spc="-1" strike="noStrike">
                <a:solidFill>
                  <a:srgbClr val="ff0000"/>
                </a:solidFill>
                <a:latin typeface="Verdana"/>
              </a:rPr>
              <a:t>be exhibited in the GA2014, the XVII Generative Art Conference and exhibition in Rome </a:t>
            </a:r>
            <a:r>
              <a:rPr b="1" lang="en-GB" sz="1000" spc="-1" strike="noStrike">
                <a:solidFill>
                  <a:srgbClr val="0070c0"/>
                </a:solidFill>
                <a:latin typeface="Verdana"/>
              </a:rPr>
              <a:t>during the second week of December. This will be the occasion to show and discuss their generative design experiments in progress with international experts in this field. All will be published in the website </a:t>
            </a:r>
            <a:r>
              <a:rPr b="1" lang="en-GB" sz="1000" spc="-1" strike="noStrike">
                <a:solidFill>
                  <a:srgbClr val="ff0000"/>
                </a:solidFill>
                <a:latin typeface="Verdana"/>
              </a:rPr>
              <a:t>www.generativism.com</a:t>
            </a:r>
            <a:r>
              <a:rPr b="1" lang="en-GB" sz="1000" spc="-1" strike="noStrike">
                <a:solidFill>
                  <a:srgbClr val="0070c0"/>
                </a:solidFill>
                <a:latin typeface="Verdana"/>
              </a:rPr>
              <a:t> and in the site of the GA conferences  </a:t>
            </a:r>
            <a:r>
              <a:rPr b="1" lang="en-GB" sz="1000" spc="-1" strike="noStrike" u="sng">
                <a:solidFill>
                  <a:srgbClr val="ff0000"/>
                </a:solidFill>
                <a:uFillTx/>
                <a:latin typeface="Verdana"/>
              </a:rPr>
              <a:t>www.generativeart.com</a:t>
            </a:r>
            <a:r>
              <a:rPr b="1" lang="en-GB" sz="1000" spc="-1" strike="noStrike">
                <a:solidFill>
                  <a:srgbClr val="0070c0"/>
                </a:solidFill>
                <a:latin typeface="Verdana"/>
              </a:rPr>
              <a:t>. Selected projects in the international Journal GASATHJ </a:t>
            </a:r>
            <a:r>
              <a:rPr b="1" lang="en-GB" sz="1000" spc="-1" strike="noStrike">
                <a:solidFill>
                  <a:srgbClr val="ff0000"/>
                </a:solidFill>
                <a:latin typeface="Verdana"/>
              </a:rPr>
              <a:t>www.gasathj.com</a:t>
            </a:r>
            <a:r>
              <a:rPr b="1" lang="en-GB" sz="1000" spc="-1" strike="noStrike">
                <a:solidFill>
                  <a:srgbClr val="0070c0"/>
                </a:solidFill>
                <a:latin typeface="Verdana"/>
              </a:rPr>
              <a:t>.</a:t>
            </a:r>
            <a:br>
              <a:rPr sz="1000"/>
            </a:br>
            <a:br>
              <a:rPr sz="1000"/>
            </a:br>
            <a:r>
              <a:rPr b="1" lang="en-GB" sz="1000" spc="-1" strike="noStrike">
                <a:solidFill>
                  <a:srgbClr val="ff0000"/>
                </a:solidFill>
                <a:latin typeface="Verdana"/>
              </a:rPr>
              <a:t>Teaching management</a:t>
            </a:r>
            <a:r>
              <a:rPr b="1" lang="en-GB" sz="1000" spc="-1" strike="noStrike">
                <a:solidFill>
                  <a:srgbClr val="0070c0"/>
                </a:solidFill>
                <a:latin typeface="Verdana"/>
              </a:rPr>
              <a:t>. Each student will have his own webpage in www.generativism.com where the design activity will be shown in real time.</a:t>
            </a:r>
            <a:br>
              <a:rPr sz="1000"/>
            </a:br>
            <a:br>
              <a:rPr sz="1000"/>
            </a:br>
            <a:r>
              <a:rPr b="1" lang="en-GB" sz="1000" spc="-1" strike="noStrike">
                <a:solidFill>
                  <a:srgbClr val="0070c0"/>
                </a:solidFill>
                <a:latin typeface="Verdana"/>
              </a:rPr>
              <a:t>The course will have the contribution of </a:t>
            </a:r>
            <a:r>
              <a:rPr b="1" lang="en-GB" sz="1000" spc="-1" strike="noStrike">
                <a:solidFill>
                  <a:srgbClr val="ff0000"/>
                </a:solidFill>
                <a:latin typeface="Verdana"/>
              </a:rPr>
              <a:t>Prof. Enrica Colabella</a:t>
            </a:r>
            <a:r>
              <a:rPr b="1" lang="en-GB" sz="1000" spc="-1" strike="noStrike">
                <a:solidFill>
                  <a:srgbClr val="0070c0"/>
                </a:solidFill>
                <a:latin typeface="Verdana"/>
              </a:rPr>
              <a:t>, an expert of generative approach to creativity and design and interactions with other international experts of generative approach to Design.</a:t>
            </a:r>
            <a:br>
              <a:rPr sz="1000"/>
            </a:br>
            <a:br>
              <a:rPr sz="1000"/>
            </a:br>
            <a:r>
              <a:rPr b="1" lang="en-GB" sz="1000" spc="-1" strike="noStrike">
                <a:solidFill>
                  <a:srgbClr val="ff0000"/>
                </a:solidFill>
                <a:latin typeface="Verdana"/>
              </a:rPr>
              <a:t>Step by step and final evaluation</a:t>
            </a:r>
            <a:r>
              <a:rPr b="1" lang="en-GB" sz="1000" spc="-1" strike="noStrike">
                <a:solidFill>
                  <a:srgbClr val="0070c0"/>
                </a:solidFill>
                <a:latin typeface="Verdana"/>
              </a:rPr>
              <a:t>. Each student will be evaluated following the work shown in the web page. More, several ex-tempore tests will be activated to focus problems and lack of deepening. The final evaluation will take care of the reached awareness of how a design processes must run and if the student has constructed a recognizable identity as designer.</a:t>
            </a:r>
            <a:br>
              <a:rPr sz="1000"/>
            </a:br>
            <a:br>
              <a:rPr sz="1000"/>
            </a:br>
            <a:r>
              <a:rPr b="1" lang="en-GB" sz="1000" spc="-1" strike="noStrike" u="sng">
                <a:solidFill>
                  <a:srgbClr val="0070c0"/>
                </a:solidFill>
                <a:uFillTx/>
                <a:latin typeface="Verdana"/>
              </a:rPr>
              <a:t>www.generativeart.com</a:t>
            </a:r>
            <a:r>
              <a:rPr b="1" lang="en-GB" sz="1000" spc="-1" strike="noStrike">
                <a:solidFill>
                  <a:srgbClr val="0070c0"/>
                </a:solidFill>
                <a:latin typeface="Verdana"/>
              </a:rPr>
              <a:t> the website of Generative Art International conference where it's possible to consult around </a:t>
            </a:r>
            <a:r>
              <a:rPr b="1" lang="en-GB" sz="1000" spc="-1" strike="noStrike">
                <a:solidFill>
                  <a:srgbClr val="ff0000"/>
                </a:solidFill>
                <a:latin typeface="Verdana"/>
              </a:rPr>
              <a:t>700 papers about the generative approach to Art, Design, Music and more</a:t>
            </a:r>
            <a:r>
              <a:rPr b="1" lang="en-GB" sz="1000" spc="-1" strike="noStrike">
                <a:solidFill>
                  <a:srgbClr val="0070c0"/>
                </a:solidFill>
                <a:latin typeface="Verdana"/>
              </a:rPr>
              <a:t>.</a:t>
            </a:r>
            <a:br>
              <a:rPr sz="1000"/>
            </a:br>
            <a:r>
              <a:rPr b="1" lang="en-GB" sz="1000" spc="-1" strike="noStrike" u="sng">
                <a:solidFill>
                  <a:srgbClr val="0070c0"/>
                </a:solidFill>
                <a:uFillTx/>
                <a:latin typeface="Verdana"/>
              </a:rPr>
              <a:t>www.gasathj.com</a:t>
            </a:r>
            <a:r>
              <a:rPr b="1" lang="en-GB" sz="1000" spc="-1" strike="noStrike">
                <a:solidFill>
                  <a:srgbClr val="0070c0"/>
                </a:solidFill>
                <a:latin typeface="Verdana"/>
              </a:rPr>
              <a:t> the website of the Generative Art Science and Technology hard Journal</a:t>
            </a:r>
            <a:br>
              <a:rPr sz="1000"/>
            </a:br>
            <a:r>
              <a:rPr b="1" lang="en-GB" sz="1000" spc="-1" strike="noStrike" u="sng">
                <a:solidFill>
                  <a:srgbClr val="0070c0"/>
                </a:solidFill>
                <a:uFillTx/>
                <a:latin typeface="Verdana"/>
              </a:rPr>
              <a:t>www.generativedesign.com</a:t>
            </a:r>
            <a:r>
              <a:rPr b="1" lang="en-GB" sz="1000" spc="-1" strike="noStrike">
                <a:solidFill>
                  <a:srgbClr val="0070c0"/>
                </a:solidFill>
                <a:latin typeface="Verdana"/>
              </a:rPr>
              <a:t> (the website of C. Soddu and E. Colabella and of the Generative Design Lab</a:t>
            </a:r>
            <a:br>
              <a:rPr sz="1000"/>
            </a:br>
            <a:r>
              <a:rPr b="1" lang="en-GB" sz="1000" spc="-1" strike="noStrike" u="sng">
                <a:solidFill>
                  <a:srgbClr val="0070c0"/>
                </a:solidFill>
                <a:uFillTx/>
                <a:latin typeface="Verdana"/>
              </a:rPr>
              <a:t>www.artscience-ebookshop.com</a:t>
            </a:r>
            <a:r>
              <a:rPr b="1" lang="en-GB" sz="1000" spc="-1" strike="noStrike">
                <a:solidFill>
                  <a:srgbClr val="0070c0"/>
                </a:solidFill>
                <a:latin typeface="Verdana"/>
              </a:rPr>
              <a:t> where it's possible to read and </a:t>
            </a:r>
            <a:r>
              <a:rPr b="1" lang="en-GB" sz="1000" spc="-1" strike="noStrike">
                <a:solidFill>
                  <a:srgbClr val="ff0000"/>
                </a:solidFill>
                <a:latin typeface="Verdana"/>
              </a:rPr>
              <a:t>download for free all the material </a:t>
            </a:r>
            <a:r>
              <a:rPr b="1" lang="en-GB" sz="1000" spc="-1" strike="noStrike">
                <a:solidFill>
                  <a:srgbClr val="0070c0"/>
                </a:solidFill>
                <a:latin typeface="Verdana"/>
              </a:rPr>
              <a:t>(ebooks, proceedings and journals) focusing the generative approach.</a:t>
            </a:r>
            <a:endParaRPr b="1"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13:48:10Z</dcterms:created>
  <dc:creator>Silvia</dc:creator>
  <dc:description/>
  <dc:language>en-US</dc:language>
  <cp:lastModifiedBy>celestino</cp:lastModifiedBy>
  <cp:lastPrinted>2003-05-08T11:08:41Z</cp:lastPrinted>
  <dcterms:modified xsi:type="dcterms:W3CDTF">2014-07-29T10:04:14Z</dcterms:modified>
  <cp:revision>216</cp:revision>
  <dc:subject/>
  <dc:title>Inserire immagine della locandina, possibilmente in trasparenza e aggiungere Facoltà di Architettura Illustrazione prova di ammissione prof. Silvia Piardi (idem Cedolin)</dc:title>
</cp:coreProperties>
</file>